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E64A63-78CD-4DEB-A543-1387B4F7F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2B6814-1CA6-4A69-AAC6-850D45C23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F29D16-FB07-4699-95ED-1C82BC15F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F9260D-F563-46E4-A664-1E5C1D3D5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90440-9BB8-489E-A8A2-952EF322F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8B0B4-705D-4018-B653-EE6312F52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2200C-D953-43F3-8E21-602187840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27FC5-19AE-423D-A11C-2F1C1D532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60354-C3C3-4C3F-8B70-A5B9E3DD9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BB468-7DF8-441A-9793-B3C07C592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3A4FA-8405-4DE7-87CF-A073087CF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B412E6-DABB-4B68-984E-2C418B2E6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11E32-5FDA-46DC-80FE-B9E54B95C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4BA3E-C53A-49BE-8163-CF45A0BD3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F807E-9792-4310-A6B5-30EFCEA79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904A9-5D2E-4359-A525-DB872C4F0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63C73-1AA9-4F75-AE35-36E146979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4A14C9-97E9-46A3-BC48-9C1ABA5F4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38C91A-B1E4-41EB-B4F0-1A43BFF78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A28BEC-1498-4D3B-9870-81F5C0507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68C08E-4652-485A-88C1-36166B3C9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D98946-2B79-48C7-A3AF-B3008AF8E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E99F72-9AEF-4473-9514-EC0812C4E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2B51B2-EBA9-4C8C-A650-3DCB22607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0FC48-13C0-473A-8F7C-FEF84272DA3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D9791-D82B-4AD1-B235-2B025C63FB0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4678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def6"/>
                </a:solidFill>
                <a:latin typeface="Arial"/>
              </a:rPr>
              <a:t>Lesson#34</a:t>
            </a:r>
            <a:br>
              <a:rPr sz="2400"/>
            </a:br>
            <a:r>
              <a:rPr b="0" lang="en-US" sz="2400" spc="-1" strike="noStrike">
                <a:solidFill>
                  <a:srgbClr val="dfdef6"/>
                </a:solidFill>
                <a:latin typeface="Arial"/>
              </a:rPr>
              <a:t>Topic: Exploring Magnets</a:t>
            </a:r>
            <a:endParaRPr b="0" lang="en-US" sz="2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858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bjectives: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After this class I will be able to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85800" indent="-685800">
              <a:spcBef>
                <a:spcPts val="799"/>
              </a:spcBef>
              <a:buClr>
                <a:srgbClr val="99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lay with magnets and write observed properties of magne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85800" indent="-685800">
              <a:spcBef>
                <a:spcPts val="799"/>
              </a:spcBef>
              <a:buClr>
                <a:srgbClr val="99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ypothesize explanations for how magnets work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7467480" y="3049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/2/0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457200" y="5029200"/>
            <a:ext cx="81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ssignment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search 5 important uses of magnets or magnetic field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380880" y="3962520"/>
            <a:ext cx="80773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Warm Up: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hat are some important uses of magnets or magnetic field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Wire on Magne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serve the direction that a magnet will be forced when put in the magnetic field of a wire with current flowing into the screen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wton’s 3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Law states that if the wire exerts a force on the magnet upward, then the magnet exerts the same force onto the wire downwar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1414440" y="2266920"/>
            <a:ext cx="2438280" cy="68580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1490760" y="2419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5486400" y="194940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 fiel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062680" y="2467080"/>
            <a:ext cx="304560" cy="30456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5119560" y="2543040"/>
            <a:ext cx="228600" cy="171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 flipH="1">
            <a:off x="5109840" y="2500200"/>
            <a:ext cx="22860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4786200" y="2238480"/>
            <a:ext cx="838440" cy="76176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4681440" y="2128680"/>
            <a:ext cx="1067040" cy="9907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4576680" y="2057400"/>
            <a:ext cx="1295640" cy="11430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4572000" y="2571480"/>
            <a:ext cx="0" cy="759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 flipV="1">
            <a:off x="4681440" y="2576520"/>
            <a:ext cx="0" cy="76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 flipV="1">
            <a:off x="4805280" y="2585880"/>
            <a:ext cx="0" cy="76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5624640" y="2604960"/>
            <a:ext cx="0" cy="76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5748480" y="2619360"/>
            <a:ext cx="0" cy="76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5857920" y="2619360"/>
            <a:ext cx="0" cy="76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 flipV="1">
            <a:off x="4038480" y="2209320"/>
            <a:ext cx="0" cy="762120"/>
          </a:xfrm>
          <a:prstGeom prst="line">
            <a:avLst/>
          </a:prstGeom>
          <a:ln w="633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3276720" y="3048120"/>
            <a:ext cx="1600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wire on magn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1143000" y="5072040"/>
            <a:ext cx="2438280" cy="68580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1219320" y="522432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5715000" y="5881680"/>
            <a:ext cx="1523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magnet on wi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5334120" y="5272200"/>
            <a:ext cx="304560" cy="30456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5391000" y="5348160"/>
            <a:ext cx="228600" cy="171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 flipH="1">
            <a:off x="5381280" y="5305320"/>
            <a:ext cx="22860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3809880" y="5805360"/>
            <a:ext cx="10670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3809880" y="5653080"/>
            <a:ext cx="10670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3809880" y="5500800"/>
            <a:ext cx="10670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3809880" y="5348160"/>
            <a:ext cx="10670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3809880" y="5195880"/>
            <a:ext cx="10670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3809880" y="5043600"/>
            <a:ext cx="10670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3886200" y="508788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 fiel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5486400" y="5729400"/>
            <a:ext cx="0" cy="671400"/>
          </a:xfrm>
          <a:prstGeom prst="line">
            <a:avLst/>
          </a:prstGeom>
          <a:ln w="633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Magnet on Wire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 can use the right hand (gun) rule to determine the direction of the force acting on a wire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ider the previous diagram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ight hand rule instructions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 Place your index finger in the direction of the current in the wire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. Place your middle finger in the direction of the magnetic field of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agne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. The direction that your thumb points is the direction that the wire will be forc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914400" y="2771640"/>
            <a:ext cx="2438280" cy="68580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990720" y="29242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5257800" y="3505320"/>
            <a:ext cx="0" cy="671400"/>
          </a:xfrm>
          <a:prstGeom prst="line">
            <a:avLst/>
          </a:prstGeom>
          <a:ln w="633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5486400" y="3581280"/>
            <a:ext cx="1523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magnet on wi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5105520" y="2971800"/>
            <a:ext cx="304560" cy="30492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5162400" y="3048120"/>
            <a:ext cx="228600" cy="171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 flipH="1">
            <a:off x="5152680" y="3005280"/>
            <a:ext cx="22860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3581280" y="3505320"/>
            <a:ext cx="10670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3581280" y="3352680"/>
            <a:ext cx="10670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3581280" y="3200400"/>
            <a:ext cx="10670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3581280" y="3048120"/>
            <a:ext cx="10670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3581280" y="2895480"/>
            <a:ext cx="10670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3581280" y="2743200"/>
            <a:ext cx="10670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3657600" y="278748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 fiel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Wire on Wire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 the right hand rule to determine the direction that wire B will be forced due to wire A’s magnetic field and vice vers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 the right hand rule to determine the direction that wire B will be forced due to wire A’s magnetic field and vice vers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1862280" y="2209680"/>
            <a:ext cx="76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 fiel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 flipH="1" flipV="1">
            <a:off x="2242800" y="2971800"/>
            <a:ext cx="762120" cy="14400"/>
          </a:xfrm>
          <a:prstGeom prst="line">
            <a:avLst/>
          </a:prstGeom>
          <a:ln w="633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2243160" y="3124080"/>
            <a:ext cx="1523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A on 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1328760" y="2819520"/>
            <a:ext cx="304920" cy="30456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1386000" y="2895480"/>
            <a:ext cx="228600" cy="171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 flipH="1">
            <a:off x="1375920" y="2852640"/>
            <a:ext cx="22860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1052640" y="2590920"/>
            <a:ext cx="838080" cy="76176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947880" y="2481120"/>
            <a:ext cx="1066680" cy="9907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843120" y="2409840"/>
            <a:ext cx="1295280" cy="11430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 flipV="1">
            <a:off x="838080" y="2923920"/>
            <a:ext cx="0" cy="759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 flipV="1">
            <a:off x="947880" y="2928960"/>
            <a:ext cx="0" cy="76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 flipV="1">
            <a:off x="1071720" y="2938320"/>
            <a:ext cx="0" cy="76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1890720" y="2957400"/>
            <a:ext cx="0" cy="76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2014560" y="2971800"/>
            <a:ext cx="0" cy="76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2124000" y="2971800"/>
            <a:ext cx="0" cy="76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3038400" y="2819520"/>
            <a:ext cx="304920" cy="30456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3081240" y="2884320"/>
            <a:ext cx="228600" cy="171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 flipH="1">
            <a:off x="3085920" y="2852640"/>
            <a:ext cx="22860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1252440" y="205740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3005280" y="207180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7272360" y="220968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 fiel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5410080" y="2971800"/>
            <a:ext cx="762120" cy="0"/>
          </a:xfrm>
          <a:prstGeom prst="line">
            <a:avLst/>
          </a:prstGeom>
          <a:ln w="633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5334120" y="3048120"/>
            <a:ext cx="1523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B on 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6738840" y="2819520"/>
            <a:ext cx="304920" cy="30456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6796080" y="2895480"/>
            <a:ext cx="228600" cy="171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 flipH="1">
            <a:off x="6786360" y="2852640"/>
            <a:ext cx="22860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6462720" y="2590920"/>
            <a:ext cx="838080" cy="76176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6357960" y="2481120"/>
            <a:ext cx="1066680" cy="9907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6253200" y="2409840"/>
            <a:ext cx="1295280" cy="11430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 flipV="1">
            <a:off x="6248520" y="2923920"/>
            <a:ext cx="0" cy="759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 flipV="1">
            <a:off x="6357960" y="2928960"/>
            <a:ext cx="0" cy="76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 flipV="1">
            <a:off x="6481800" y="2938320"/>
            <a:ext cx="0" cy="76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7300800" y="2957400"/>
            <a:ext cx="0" cy="76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7424640" y="2971800"/>
            <a:ext cx="0" cy="76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7534440" y="2971800"/>
            <a:ext cx="0" cy="76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5029200" y="2819520"/>
            <a:ext cx="304920" cy="30456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5072040" y="2884320"/>
            <a:ext cx="228600" cy="171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 flipH="1">
            <a:off x="5076360" y="2852640"/>
            <a:ext cx="22860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5029200" y="20574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6705720" y="199548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2014560" y="528624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 fiel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1481040" y="5896080"/>
            <a:ext cx="304920" cy="30456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1538280" y="5972040"/>
            <a:ext cx="228600" cy="171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 flipH="1">
            <a:off x="1528560" y="5929200"/>
            <a:ext cx="22860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1204920" y="5667480"/>
            <a:ext cx="838080" cy="76176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1100160" y="5557680"/>
            <a:ext cx="1066680" cy="9907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995400" y="5486400"/>
            <a:ext cx="1295280" cy="11430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 flipV="1">
            <a:off x="990720" y="6000480"/>
            <a:ext cx="0" cy="759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 flipV="1">
            <a:off x="1100160" y="6005520"/>
            <a:ext cx="0" cy="76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 flipV="1">
            <a:off x="1224000" y="6014880"/>
            <a:ext cx="0" cy="76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2043000" y="6033960"/>
            <a:ext cx="0" cy="76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2166840" y="6048360"/>
            <a:ext cx="0" cy="76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2276640" y="6048360"/>
            <a:ext cx="0" cy="76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3191040" y="5896080"/>
            <a:ext cx="304560" cy="30456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1405080" y="513396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3157560" y="514836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7424640" y="528624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 fiel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6891480" y="5896080"/>
            <a:ext cx="304560" cy="30456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6615000" y="5667480"/>
            <a:ext cx="838440" cy="76176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6510240" y="5557680"/>
            <a:ext cx="1067040" cy="9907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6405480" y="5486400"/>
            <a:ext cx="1295640" cy="11430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 flipV="1">
            <a:off x="7467480" y="6019560"/>
            <a:ext cx="0" cy="759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 flipV="1">
            <a:off x="7577280" y="6024600"/>
            <a:ext cx="0" cy="76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 flipV="1">
            <a:off x="7696080" y="6038640"/>
            <a:ext cx="0" cy="759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6400800" y="6033960"/>
            <a:ext cx="0" cy="76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6524640" y="6048360"/>
            <a:ext cx="0" cy="76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6634080" y="6048360"/>
            <a:ext cx="0" cy="76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5181480" y="5896080"/>
            <a:ext cx="304920" cy="30456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5224320" y="5961240"/>
            <a:ext cx="228600" cy="171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 flipH="1">
            <a:off x="5229000" y="5929200"/>
            <a:ext cx="22860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5181480" y="513396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6858000" y="507204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3262320" y="5972040"/>
            <a:ext cx="152280" cy="152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6962760" y="5972040"/>
            <a:ext cx="152280" cy="152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Magnetic field of a solenoid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6840" y="914400"/>
            <a:ext cx="80773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ider multiple wires where all of the wires on top are going into the page and all of the wires on the bottom are coming out of the pag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gnetic field lines will be concentrated inside the solenoi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1862280" y="2209680"/>
            <a:ext cx="76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 fiel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1328760" y="2819520"/>
            <a:ext cx="304920" cy="30456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1386000" y="2895480"/>
            <a:ext cx="228600" cy="171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 flipH="1">
            <a:off x="1375920" y="2852640"/>
            <a:ext cx="22860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1052640" y="2590920"/>
            <a:ext cx="838080" cy="76176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947880" y="2481120"/>
            <a:ext cx="1066680" cy="9907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843120" y="2409840"/>
            <a:ext cx="1295280" cy="11430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 flipV="1">
            <a:off x="838080" y="2923920"/>
            <a:ext cx="0" cy="759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 flipV="1">
            <a:off x="947880" y="2928960"/>
            <a:ext cx="0" cy="76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 flipV="1">
            <a:off x="1071720" y="2938320"/>
            <a:ext cx="0" cy="76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1890720" y="2957400"/>
            <a:ext cx="0" cy="76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2014560" y="2971800"/>
            <a:ext cx="0" cy="76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2124000" y="2971800"/>
            <a:ext cx="0" cy="76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3038400" y="2819520"/>
            <a:ext cx="304920" cy="30456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3081240" y="2884320"/>
            <a:ext cx="228600" cy="171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 flipH="1">
            <a:off x="3085920" y="2852640"/>
            <a:ext cx="22860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7272360" y="220968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 fiel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6738840" y="2819520"/>
            <a:ext cx="304920" cy="30456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6796080" y="2895480"/>
            <a:ext cx="228600" cy="171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 flipH="1">
            <a:off x="6786360" y="2852640"/>
            <a:ext cx="22860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6462720" y="2590920"/>
            <a:ext cx="838080" cy="76176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6357960" y="2481120"/>
            <a:ext cx="1066680" cy="9907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6253200" y="2409840"/>
            <a:ext cx="1295280" cy="11430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 flipV="1">
            <a:off x="6248520" y="2923920"/>
            <a:ext cx="0" cy="759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 flipV="1">
            <a:off x="6357960" y="2928960"/>
            <a:ext cx="0" cy="76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 flipV="1">
            <a:off x="6481800" y="2938320"/>
            <a:ext cx="0" cy="76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7300800" y="2957400"/>
            <a:ext cx="0" cy="76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7424640" y="2971800"/>
            <a:ext cx="0" cy="76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7534440" y="2971800"/>
            <a:ext cx="0" cy="76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5029200" y="2819520"/>
            <a:ext cx="304920" cy="30456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5072040" y="2884320"/>
            <a:ext cx="228600" cy="171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 flipH="1">
            <a:off x="5076360" y="2852640"/>
            <a:ext cx="22860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4753080" y="2604960"/>
            <a:ext cx="838080" cy="7621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4648320" y="2495520"/>
            <a:ext cx="1066680" cy="9907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4543560" y="2424240"/>
            <a:ext cx="1295280" cy="11430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 flipV="1">
            <a:off x="4538520" y="2938320"/>
            <a:ext cx="0" cy="76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 flipV="1">
            <a:off x="4648320" y="2943000"/>
            <a:ext cx="0" cy="759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 flipV="1">
            <a:off x="4772160" y="2952720"/>
            <a:ext cx="0" cy="76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5591160" y="2971800"/>
            <a:ext cx="0" cy="76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5715000" y="2986200"/>
            <a:ext cx="0" cy="759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5824440" y="2986200"/>
            <a:ext cx="0" cy="759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1047600" y="3762360"/>
            <a:ext cx="838440" cy="7621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942840" y="3652920"/>
            <a:ext cx="1067040" cy="99036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838080" y="3581280"/>
            <a:ext cx="1295640" cy="11430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2738520" y="2590920"/>
            <a:ext cx="838080" cy="76176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2633760" y="2481120"/>
            <a:ext cx="1066680" cy="9907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2529000" y="2409840"/>
            <a:ext cx="1295280" cy="11430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 flipV="1">
            <a:off x="2538360" y="2938320"/>
            <a:ext cx="0" cy="76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 flipV="1">
            <a:off x="2647800" y="2943000"/>
            <a:ext cx="0" cy="759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 flipV="1">
            <a:off x="2771640" y="2952720"/>
            <a:ext cx="0" cy="76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3591000" y="2971800"/>
            <a:ext cx="0" cy="76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3714840" y="2986200"/>
            <a:ext cx="0" cy="759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3824280" y="2986200"/>
            <a:ext cx="0" cy="759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2800440" y="3762360"/>
            <a:ext cx="838080" cy="7621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2695680" y="3652920"/>
            <a:ext cx="1066680" cy="99036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2590920" y="3581280"/>
            <a:ext cx="1295280" cy="11430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4705200" y="3762360"/>
            <a:ext cx="838440" cy="7621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4600440" y="3652920"/>
            <a:ext cx="1067040" cy="99036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4495680" y="3581280"/>
            <a:ext cx="1295640" cy="11430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6534000" y="3762360"/>
            <a:ext cx="838440" cy="7621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6429240" y="3652920"/>
            <a:ext cx="1067040" cy="99036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6324480" y="3581280"/>
            <a:ext cx="1295640" cy="11430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1295280" y="3976560"/>
            <a:ext cx="304920" cy="30492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1366920" y="4052880"/>
            <a:ext cx="152280" cy="152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3076560" y="4005360"/>
            <a:ext cx="304920" cy="30456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3147840" y="4081320"/>
            <a:ext cx="152640" cy="152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4981680" y="3995640"/>
            <a:ext cx="304560" cy="30492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5052960" y="4071960"/>
            <a:ext cx="152280" cy="152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6796080" y="3990960"/>
            <a:ext cx="304920" cy="30492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6867360" y="4067280"/>
            <a:ext cx="152640" cy="152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838080" y="4186080"/>
            <a:ext cx="0" cy="76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961920" y="4200480"/>
            <a:ext cx="0" cy="76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1071720" y="4200480"/>
            <a:ext cx="0" cy="76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 flipV="1">
            <a:off x="1886040" y="4128840"/>
            <a:ext cx="0" cy="759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 flipV="1">
            <a:off x="1995480" y="4133880"/>
            <a:ext cx="0" cy="76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 flipV="1">
            <a:off x="2119320" y="4143240"/>
            <a:ext cx="0" cy="76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2590920" y="4176720"/>
            <a:ext cx="0" cy="76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2714760" y="4191120"/>
            <a:ext cx="0" cy="759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2824200" y="4191120"/>
            <a:ext cx="0" cy="759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 flipV="1">
            <a:off x="3652920" y="4114800"/>
            <a:ext cx="0" cy="76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 flipV="1">
            <a:off x="3762360" y="4119480"/>
            <a:ext cx="0" cy="76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 flipV="1">
            <a:off x="3886200" y="4128840"/>
            <a:ext cx="0" cy="759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4495680" y="4191120"/>
            <a:ext cx="0" cy="759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4619520" y="4205160"/>
            <a:ext cx="0" cy="76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4729320" y="4205160"/>
            <a:ext cx="0" cy="76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 flipV="1">
            <a:off x="5557680" y="4114800"/>
            <a:ext cx="0" cy="76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 flipV="1">
            <a:off x="5667480" y="4119480"/>
            <a:ext cx="0" cy="76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 flipV="1">
            <a:off x="5791320" y="4128840"/>
            <a:ext cx="0" cy="759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6319800" y="4191120"/>
            <a:ext cx="0" cy="759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6443640" y="4205160"/>
            <a:ext cx="0" cy="76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>
            <a:off x="6553080" y="4205160"/>
            <a:ext cx="0" cy="76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 flipV="1">
            <a:off x="7386480" y="4114800"/>
            <a:ext cx="0" cy="76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 flipV="1">
            <a:off x="7496280" y="4119480"/>
            <a:ext cx="0" cy="76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 flipV="1">
            <a:off x="7620120" y="4128840"/>
            <a:ext cx="0" cy="759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3581280" y="5410080"/>
            <a:ext cx="304920" cy="30492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3638520" y="5486400"/>
            <a:ext cx="228600" cy="171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 flipH="1">
            <a:off x="3628800" y="5443560"/>
            <a:ext cx="22860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3581280" y="6400800"/>
            <a:ext cx="304920" cy="30492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3652920" y="6477120"/>
            <a:ext cx="152280" cy="152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3886200" y="5410080"/>
            <a:ext cx="304920" cy="30492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3943440" y="5486400"/>
            <a:ext cx="228600" cy="171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 flipH="1">
            <a:off x="3933360" y="5443560"/>
            <a:ext cx="22860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3886200" y="6400800"/>
            <a:ext cx="304920" cy="30492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3957480" y="6477120"/>
            <a:ext cx="152640" cy="152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4191120" y="5410080"/>
            <a:ext cx="304560" cy="30492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4248000" y="5486400"/>
            <a:ext cx="228600" cy="171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 flipH="1">
            <a:off x="4238280" y="5443560"/>
            <a:ext cx="22860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4191120" y="6400800"/>
            <a:ext cx="304560" cy="30492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4262400" y="6477120"/>
            <a:ext cx="152280" cy="152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4495680" y="5410080"/>
            <a:ext cx="304920" cy="30492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4552920" y="5486400"/>
            <a:ext cx="228600" cy="171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 flipH="1">
            <a:off x="4543200" y="5443560"/>
            <a:ext cx="22860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4495680" y="6400800"/>
            <a:ext cx="304920" cy="30492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4567320" y="6477120"/>
            <a:ext cx="152280" cy="152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4800600" y="5410080"/>
            <a:ext cx="304920" cy="30492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4857840" y="5486400"/>
            <a:ext cx="228600" cy="171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 flipH="1">
            <a:off x="4847760" y="5443560"/>
            <a:ext cx="22860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4800600" y="6400800"/>
            <a:ext cx="304920" cy="30492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4871880" y="6477120"/>
            <a:ext cx="152640" cy="152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5105520" y="5410080"/>
            <a:ext cx="304560" cy="30492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5162400" y="5486400"/>
            <a:ext cx="228600" cy="171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 flipH="1">
            <a:off x="5152680" y="5443560"/>
            <a:ext cx="22860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5105520" y="6400800"/>
            <a:ext cx="304560" cy="30492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5176800" y="6477120"/>
            <a:ext cx="152280" cy="152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5410080" y="5410080"/>
            <a:ext cx="304920" cy="30492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5467320" y="5486400"/>
            <a:ext cx="228600" cy="171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 flipH="1">
            <a:off x="5457600" y="5443560"/>
            <a:ext cx="22860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5410080" y="6400800"/>
            <a:ext cx="304920" cy="30492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5481720" y="6477120"/>
            <a:ext cx="152280" cy="152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5715000" y="5410080"/>
            <a:ext cx="304920" cy="30492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5772240" y="5486400"/>
            <a:ext cx="228600" cy="171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 flipH="1">
            <a:off x="5762160" y="5443560"/>
            <a:ext cx="22860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5715000" y="6400800"/>
            <a:ext cx="304920" cy="30492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5786280" y="6477120"/>
            <a:ext cx="152640" cy="152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 flipH="1">
            <a:off x="3580920" y="5853240"/>
            <a:ext cx="25146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 flipH="1">
            <a:off x="3580920" y="5929200"/>
            <a:ext cx="25146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 flipH="1">
            <a:off x="3580920" y="6019920"/>
            <a:ext cx="25146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 flipH="1">
            <a:off x="3580920" y="6095880"/>
            <a:ext cx="25146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 flipH="1">
            <a:off x="3580920" y="6186600"/>
            <a:ext cx="25146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 flipH="1">
            <a:off x="3580920" y="6276960"/>
            <a:ext cx="25146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7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7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7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7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4678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def6"/>
                </a:solidFill>
                <a:latin typeface="Arial"/>
              </a:rPr>
              <a:t>Lesson #37</a:t>
            </a:r>
            <a:br>
              <a:rPr sz="2400"/>
            </a:br>
            <a:r>
              <a:rPr b="0" lang="en-US" sz="2400" spc="-1" strike="noStrike">
                <a:solidFill>
                  <a:srgbClr val="dfdef6"/>
                </a:solidFill>
                <a:latin typeface="Arial"/>
              </a:rPr>
              <a:t>Topic: Calculating Magnetic Force </a:t>
            </a:r>
            <a:endParaRPr b="0" lang="en-US" sz="2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 type="subTitle"/>
          </p:nvPr>
        </p:nvSpPr>
        <p:spPr>
          <a:xfrm>
            <a:off x="228600" y="1066680"/>
            <a:ext cx="8686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85800" indent="-685800">
              <a:spcBef>
                <a:spcPts val="700"/>
              </a:spcBef>
              <a:buClr>
                <a:srgbClr val="99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s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After this class I will be able to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685800">
              <a:spcBef>
                <a:spcPts val="700"/>
              </a:spcBef>
              <a:buClr>
                <a:srgbClr val="99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lculate the magnitude of the magnetic force acting on a wire or point charg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685800">
              <a:spcBef>
                <a:spcPts val="700"/>
              </a:spcBef>
              <a:buClr>
                <a:srgbClr val="99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lculate the magnitude of the magnetic field acting on a wire or point charg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685800">
              <a:spcBef>
                <a:spcPts val="700"/>
              </a:spcBef>
              <a:buClr>
                <a:srgbClr val="99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cribe the units of magnetic field strength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7467480" y="3049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/9/0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457200" y="6019920"/>
            <a:ext cx="81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ssignment: Magnetic Force and Field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380880" y="4419720"/>
            <a:ext cx="8077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Warm Up: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proton is traveling East in a magnetic field that points North. What is the direction that the proton is forced? What if the proton was traveling North and the magnetic field is also directed North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Magnetic Force on a wire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6840" y="914400"/>
            <a:ext cx="80773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greater the current through the wire, the larger the magnetic force acting on the wi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longer the length of wire in the magnetic field, the greater the force acting on the wi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stronger the magnetic field that the wire is in, the greater the force acting on the wi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only stipulation is that the current though the wire must be perpendicular to the magnetic field that the wire is placed i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the current is parallel to the field, no force will be fel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the current is not perpendicular, then use the component of the B field that is perpendicula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1" dur="indefinite" restart="never" nodeType="tmRoot">
          <p:childTnLst>
            <p:seq>
              <p:cTn id="742" dur="indefinite" nodeType="mainSeq">
                <p:childTnLst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8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8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8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8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8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8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8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8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1" dur="500" fill="hold"/>
                                        <p:tgtEl>
                                          <p:spTgt spid="8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8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8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8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Magnetic Force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381880" cy="453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member, this is the force exerted by the field onto the wi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B in this equation is not the B field created by the wire. It is an already existing B fiel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 can also treat this wire as if it is just a single point charge moving with some velocit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obtain the equa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5" name=""/>
              <p:cNvSpPr txBox="1"/>
              <p:nvPr/>
            </p:nvSpPr>
            <p:spPr>
              <a:xfrm>
                <a:off x="3200400" y="1143000"/>
                <a:ext cx="2666880" cy="72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×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6" name=""/>
              <p:cNvSpPr txBox="1"/>
              <p:nvPr/>
            </p:nvSpPr>
            <p:spPr>
              <a:xfrm>
                <a:off x="3200400" y="5502240"/>
                <a:ext cx="2666880" cy="69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×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9" dur="indefinite" restart="never" nodeType="tmRoot">
          <p:childTnLst>
            <p:seq>
              <p:cTn id="780" dur="indefinite" nodeType="mainSeq">
                <p:childTnLst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8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8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1" dur="500" fill="hold"/>
                                        <p:tgtEl>
                                          <p:spTgt spid="8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2" dur="500" fill="hold"/>
                                        <p:tgtEl>
                                          <p:spTgt spid="8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7" dur="500" fill="hold"/>
                                        <p:tgtEl>
                                          <p:spTgt spid="8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8" dur="500" fill="hold"/>
                                        <p:tgtEl>
                                          <p:spTgt spid="8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3" dur="500" fill="hold"/>
                                        <p:tgtEl>
                                          <p:spTgt spid="8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8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Magnetic Force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oth these equations involve cross produc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is used such that we remember to use only the perpendicular component of the magnetic field strength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remember this we can transform our equation t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re </a:t>
            </a:r>
            <a:r>
              <a:rPr b="0" i="1" lang="el-GR" sz="2800" spc="-1" strike="noStrike">
                <a:solidFill>
                  <a:srgbClr val="ffffff"/>
                </a:solidFill>
                <a:latin typeface="Arial"/>
                <a:ea typeface="Arial"/>
              </a:rPr>
              <a:t>θ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is the angle between the magnetic field and the current or velocit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9" name=""/>
              <p:cNvSpPr txBox="1"/>
              <p:nvPr/>
            </p:nvSpPr>
            <p:spPr>
              <a:xfrm>
                <a:off x="457200" y="4267080"/>
                <a:ext cx="350532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0" name=""/>
              <p:cNvSpPr txBox="1"/>
              <p:nvPr/>
            </p:nvSpPr>
            <p:spPr>
              <a:xfrm>
                <a:off x="4419720" y="4267080"/>
                <a:ext cx="3504960" cy="75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9" dur="indefinite" restart="never" nodeType="tmRoot">
          <p:childTnLst>
            <p:seq>
              <p:cTn id="810" dur="indefinite" nodeType="mainSeq">
                <p:childTnLst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8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8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8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8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7" dur="500" fill="hold"/>
                                        <p:tgtEl>
                                          <p:spTgt spid="8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8" dur="500" fill="hold"/>
                                        <p:tgtEl>
                                          <p:spTgt spid="8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9" dur="500" fill="hold"/>
                                        <p:tgtEl>
                                          <p:spTgt spid="8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0" dur="500" fill="hold"/>
                                        <p:tgtEl>
                                          <p:spTgt spid="8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4678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def6"/>
                </a:solidFill>
                <a:latin typeface="Arial"/>
              </a:rPr>
              <a:t>Lesson#35</a:t>
            </a:r>
            <a:br>
              <a:rPr sz="2400"/>
            </a:br>
            <a:r>
              <a:rPr b="0" lang="en-US" sz="2400" spc="-1" strike="noStrike">
                <a:solidFill>
                  <a:srgbClr val="dfdef6"/>
                </a:solidFill>
                <a:latin typeface="Arial"/>
              </a:rPr>
              <a:t>Topic: Explaining the Magnetic Force</a:t>
            </a:r>
            <a:endParaRPr b="0" lang="en-US" sz="2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subTitle"/>
          </p:nvPr>
        </p:nvSpPr>
        <p:spPr>
          <a:xfrm>
            <a:off x="228600" y="1294920"/>
            <a:ext cx="86868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8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bjectives: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fter this class I will be able to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85800" indent="-685800">
              <a:lnSpc>
                <a:spcPct val="80000"/>
              </a:lnSpc>
              <a:spcBef>
                <a:spcPts val="601"/>
              </a:spcBef>
              <a:buClr>
                <a:srgbClr val="99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riefly describe relativity and how it relates to the transfer of “information”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85800" indent="-685800">
              <a:lnSpc>
                <a:spcPct val="80000"/>
              </a:lnSpc>
              <a:spcBef>
                <a:spcPts val="601"/>
              </a:spcBef>
              <a:buClr>
                <a:srgbClr val="99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plain how the magnetic force is replaced in absence of the magnetic force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85800" indent="-685800">
              <a:lnSpc>
                <a:spcPct val="80000"/>
              </a:lnSpc>
              <a:spcBef>
                <a:spcPts val="601"/>
              </a:spcBef>
              <a:buClr>
                <a:srgbClr val="99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rive the first equation of the magnetic force from our previous equation for the electric forc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85800" indent="-685800">
              <a:lnSpc>
                <a:spcPct val="80000"/>
              </a:lnSpc>
              <a:spcBef>
                <a:spcPts val="601"/>
              </a:spcBef>
              <a:buClr>
                <a:srgbClr val="99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scribe how the electric force and the magnetic force are really two parts of the same underlying fundamental electromagnetic forc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7467480" y="3049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/3/0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304920" y="5867280"/>
            <a:ext cx="81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ssignment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scribe how an accelerating charge will disrupt the surrounding electric and magnetic fields and create an electromagnetic wave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380880" y="4952880"/>
            <a:ext cx="80773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Warm Up: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s it possible for information to travel instantaneously from source to receiver?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2263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Crash course relativity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HING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n travel faster than the speed of light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t even fundamental informa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ample: Say hello to a friend. Your friend will never hear you say hello the instant that you say it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formation (like everything else) has to travel through both time and space before being received (before action takes place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causes a disturbance in the electric force between charg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Crash course relativity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6840" y="914040"/>
            <a:ext cx="80773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effect is minimal at low (non-relativistic speed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t is considerable at high speed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ider two point charges at res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w consider two point charges moving at relativistic speeds (at the speed of light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is impossible for the charges to “communicate” with one anoth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2133720" y="2895480"/>
            <a:ext cx="380880" cy="38124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2133720" y="4114800"/>
            <a:ext cx="380880" cy="38088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2209680" y="307332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2209680" y="429264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Explaining the Magnetic Force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6840" y="914040"/>
            <a:ext cx="80773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n traveling at the speed of light, these like charges do not repe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 high speeds they repel, but less than they would at lower speed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order for Newton’s laws to hold true, then there must be some force acting opposite the electric forc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force is present when charges are mov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is the magnetic forc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Explaining the Magnetic Force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6840" y="914040"/>
            <a:ext cx="80773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direction of this force is perpendicular to the velocity of the charge (current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t it is also perpendicular to the direction of the magnetic field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magnetic field forms in concentric circles around the direction of the moving charg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2133720" y="4876920"/>
            <a:ext cx="380880" cy="38088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2133720" y="6095880"/>
            <a:ext cx="380880" cy="38124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2209680" y="505476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2209680" y="627372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5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5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4678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def6"/>
                </a:solidFill>
                <a:latin typeface="Arial"/>
              </a:rPr>
              <a:t>Lesson #36</a:t>
            </a:r>
            <a:br>
              <a:rPr sz="2400"/>
            </a:br>
            <a:r>
              <a:rPr b="0" lang="en-US" sz="2400" spc="-1" strike="noStrike">
                <a:solidFill>
                  <a:srgbClr val="dfdef6"/>
                </a:solidFill>
                <a:latin typeface="Arial"/>
              </a:rPr>
              <a:t>Topic: Magnetic Field </a:t>
            </a:r>
            <a:endParaRPr b="0" lang="en-US" sz="2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228600" y="1066680"/>
            <a:ext cx="8686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8580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bjectives: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After this class I will be able to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85800" indent="-685800">
              <a:lnSpc>
                <a:spcPct val="80000"/>
              </a:lnSpc>
              <a:spcBef>
                <a:spcPts val="700"/>
              </a:spcBef>
              <a:buClr>
                <a:srgbClr val="99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cribe the direction of the magnetic field surrounding a magnet or a wire carrying curre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685800">
              <a:lnSpc>
                <a:spcPct val="80000"/>
              </a:lnSpc>
              <a:spcBef>
                <a:spcPts val="700"/>
              </a:spcBef>
              <a:buClr>
                <a:srgbClr val="99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cribe the direction a magnet will force another magnet or a wire with curre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685800">
              <a:lnSpc>
                <a:spcPct val="80000"/>
              </a:lnSpc>
              <a:spcBef>
                <a:spcPts val="700"/>
              </a:spcBef>
              <a:buClr>
                <a:srgbClr val="99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cribe the direction a wire with current will force a magnet or another wire with curre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685800">
              <a:lnSpc>
                <a:spcPct val="80000"/>
              </a:lnSpc>
              <a:spcBef>
                <a:spcPts val="700"/>
              </a:spcBef>
              <a:buClr>
                <a:srgbClr val="99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cribe the magnetic field created with a solenoi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7467480" y="3049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/8/0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457200" y="6019920"/>
            <a:ext cx="81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ssignment: Holt p781 #4, 8, 9, 13, 14, 17, 19, 22 - 27, 32, 35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457200" y="472428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Warm Up: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ketch a picture of the magnetic field lines surrounding a bar magnet. Sketch what happens if the magnet gets broken in half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Magnetic Fields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6840" y="914040"/>
            <a:ext cx="80773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magnetic field is the direction that the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rt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pole of a magnet will be forced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n a magnet is placed near another magnet’s field, it is easy to see the direction that the magnet will be forc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n a magnet is placed near a wire with current, it is more difficult to predict the direction the magnet will be forc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n two wires with current are placed near one another, it is also difficult to predict the direction that they will be forc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bserve the following diagram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5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5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5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5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5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5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Magnet on Magne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bserve the magnetic field of magnet B and the direction that magnet A will be forc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bserve the magnetic field of magnet A and the direction that magnet B will be forc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1066680" y="2514600"/>
            <a:ext cx="2438640" cy="68580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5029200" y="2514600"/>
            <a:ext cx="2438280" cy="68580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1143000" y="26668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5105520" y="26668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1981080" y="20574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6095880" y="20574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3809880" y="2514600"/>
            <a:ext cx="10670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 flipH="1">
            <a:off x="3809880" y="2666880"/>
            <a:ext cx="10670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 flipH="1">
            <a:off x="3809880" y="2819520"/>
            <a:ext cx="10670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 flipH="1">
            <a:off x="3809880" y="2971800"/>
            <a:ext cx="10670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 flipH="1">
            <a:off x="3809880" y="3124080"/>
            <a:ext cx="10670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 flipH="1">
            <a:off x="3809880" y="3276720"/>
            <a:ext cx="10670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4038480" y="259092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 fiel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 flipH="1">
            <a:off x="1142640" y="3429000"/>
            <a:ext cx="1981080" cy="0"/>
          </a:xfrm>
          <a:prstGeom prst="line">
            <a:avLst/>
          </a:prstGeom>
          <a:ln w="633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1447920" y="3429000"/>
            <a:ext cx="1295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B on 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990720" y="5029200"/>
            <a:ext cx="2438280" cy="68580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4952880" y="5029200"/>
            <a:ext cx="2438640" cy="68580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1066680" y="5181480"/>
            <a:ext cx="22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5029200" y="5181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1905120" y="45720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6019920" y="45720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3581280" y="5867280"/>
            <a:ext cx="10670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3962520" y="5105520"/>
            <a:ext cx="76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 fiel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5181480" y="5943600"/>
            <a:ext cx="2057400" cy="0"/>
          </a:xfrm>
          <a:prstGeom prst="line">
            <a:avLst/>
          </a:prstGeom>
          <a:ln w="6336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5562720" y="6095880"/>
            <a:ext cx="1295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A on 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3581280" y="5715000"/>
            <a:ext cx="10670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3581280" y="5562720"/>
            <a:ext cx="10670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3581280" y="5410080"/>
            <a:ext cx="10670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3581280" y="5257800"/>
            <a:ext cx="10670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3581280" y="5105520"/>
            <a:ext cx="10670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2T17:39:45Z</dcterms:created>
  <dc:creator>End User</dc:creator>
  <dc:description/>
  <dc:language>en-US</dc:language>
  <cp:lastModifiedBy>End User</cp:lastModifiedBy>
  <dcterms:modified xsi:type="dcterms:W3CDTF">2007-01-08T15:49:48Z</dcterms:modified>
  <cp:revision>101</cp:revision>
  <dc:subject/>
  <dc:title>Lesson #1 8/29/06 </dc:title>
</cp:coreProperties>
</file>